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19F-9409-4C16-A673-1854C759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599-64D6-48BF-B648-15C7E48E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818-5D41-4901-873F-0F02E16C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837-82F0-48C3-AAFF-2F80599B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DA3D-A5AF-45E9-9AF6-6735AAE2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0D76-BB37-4F97-9236-42B70ED1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B8B-5D41-4CEF-AFC4-98E563B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A549-DE03-4A4B-9AD6-DD3BFA83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15E-EFE6-49B1-99A5-880D771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EABA-EFF7-45C9-A665-0066F264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532B-9B8B-41F9-832D-CBECC0C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501-CC94-4EAE-9ED9-0CA3377F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9AE6-80CF-457C-A1BF-72252AC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5EDF-A486-4729-BA3A-27FE56A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003B-419D-43DE-84EA-081AF22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0528-8CEA-4EE3-A0D9-C9F087F7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C038-EF38-4460-B534-0DA4919E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6B9-ABD4-49A8-B6B2-769DEFA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711-9580-4258-9DD5-530012F3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485-99FF-4015-AA18-B7CEEEB4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7DC-B636-473D-9BF5-6A6B7311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808-5902-47FA-90CA-71F596C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5DD-50BA-4FCF-9760-53F4C7D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6B8-5C74-491A-B319-98B788B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2E73-78F0-4970-A99B-D6A56648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5040" y="59400"/>
              <a:ext cx="3625200" cy="6136200"/>
              <a:chOff x="5405040" y="59400"/>
              <a:chExt cx="362520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8000" y="343440"/>
                <a:ext cx="2109600" cy="23551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5720" y="1967040"/>
                <a:ext cx="903600" cy="8416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760" y="2586600"/>
                <a:ext cx="4381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280" y="669240"/>
                <a:ext cx="38772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2040" y="264960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1280"/>
                <a:ext cx="18972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4960" y="2936160"/>
                <a:ext cx="522000" cy="32655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800" y="290160"/>
              <a:ext cx="897480" cy="821160"/>
              <a:chOff x="5644800" y="290160"/>
              <a:chExt cx="89748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320" y="779040"/>
                <a:ext cx="18216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280" y="462600"/>
                <a:ext cx="31032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9240" y="392400"/>
                <a:ext cx="32436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640"/>
              <a:ext cx="1059120" cy="833400"/>
              <a:chOff x="968760" y="525564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1808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300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065-7E75-4647-906E-CCEE3B25034A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Evaluating Website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 you trust everyone to tell you the truth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Osama"/>
          <p:cNvPicPr/>
          <p:nvPr/>
        </p:nvPicPr>
        <p:blipFill>
          <a:blip r:embed="rId1"/>
          <a:stretch/>
        </p:blipFill>
        <p:spPr>
          <a:xfrm>
            <a:off x="3429000" y="3048120"/>
            <a:ext cx="196056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457200" y="350532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sama bin Laden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rrori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957-201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86400" y="3124080"/>
            <a:ext cx="266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Was one of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BI’s 10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Most Wanted Fugitiv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638680" y="5105520"/>
            <a:ext cx="26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73"/>
                </a:solidFill>
                <a:latin typeface="Verdana"/>
              </a:rPr>
              <a:t>Reward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73"/>
                </a:solidFill>
                <a:latin typeface="Verdana"/>
              </a:rPr>
              <a:t>$52 mill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at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 </a:t>
            </a: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ccuracy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You should answer </a:t>
            </a:r>
            <a:r>
              <a:rPr b="1" i="1" lang="en-US" sz="4000" spc="-1" strike="noStrike">
                <a:solidFill>
                  <a:srgbClr val="00b050"/>
                </a:solidFill>
                <a:latin typeface="Verdana"/>
              </a:rPr>
              <a:t>yes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Does the info appear accurate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an you verify facts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 the info scholarly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 info documented with sources or links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83772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/are the spelling/ grammar/ links correct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 site linked to reputable sites? To check who links to this site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ype in Google search box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4000" spc="-1" strike="noStrike">
                <a:solidFill>
                  <a:srgbClr val="00b050"/>
                </a:solidFill>
                <a:latin typeface="Verdana"/>
              </a:rPr>
              <a:t>link:paste URL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Example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link:http://www.fvza.org/index.html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                      </a:t>
            </a: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en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When was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the information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created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Currency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9" descr="Caveman-3"/>
          <p:cNvPicPr/>
          <p:nvPr/>
        </p:nvPicPr>
        <p:blipFill>
          <a:blip r:embed="rId1"/>
          <a:stretch/>
        </p:blipFill>
        <p:spPr>
          <a:xfrm>
            <a:off x="647712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en</a:t>
            </a: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? </a:t>
            </a:r>
            <a:r>
              <a:rPr b="1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Currency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page dated? (no? – don’t use!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en was page created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en was page last updated or revised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any info out-of-dat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re links still activ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es current date matter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4" descr="Sabretooth.png"/>
          <p:cNvPicPr/>
          <p:nvPr/>
        </p:nvPicPr>
        <p:blipFill>
          <a:blip r:embed="rId1"/>
          <a:stretch/>
        </p:blipFill>
        <p:spPr>
          <a:xfrm>
            <a:off x="6324480" y="4114800"/>
            <a:ext cx="2667240" cy="23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ere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99"/>
                </a:solidFill>
                <a:uFillTx/>
                <a:latin typeface="Verdana"/>
              </a:rPr>
              <a:t>Where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does the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information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come from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3" descr="ZF4C1CA3OU9JUCAENIEQ9CAVUMK8OCA4FTL0ZCA91103UCA06UZRRCAZ9U3LHCAO79LH7CA6ZN6G3CAJ0MIU5CAFSUV9XCANM2B01CA5CJQQDCAM1HCVOCAP6TQ9PCAVAO0GTCA9SCESLCA199YZA.jpg"/>
          <p:cNvPicPr/>
          <p:nvPr/>
        </p:nvPicPr>
        <p:blipFill>
          <a:blip r:embed="rId1"/>
          <a:stretch/>
        </p:blipFill>
        <p:spPr>
          <a:xfrm>
            <a:off x="533520" y="3581280"/>
            <a:ext cx="236196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URL – Domain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~ or % = personal p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gov     = Governmen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mil      = Military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edu     = Educ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org      = Organiz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com     = Commercia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int        = Internationa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us, .uk = country cod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-686160"/>
            <a:ext cx="82440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y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y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was the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page created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Is the purpose: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524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inform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explain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persuade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sell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satirize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entertain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Does the author: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State his/her purpose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Appear biased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Distinguish fact from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opinion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Use excessive advertising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www.buydehydratedwater.com/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CAUTION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Never use information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you can’t verify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What about </a:t>
            </a:r>
            <a:r>
              <a:rPr b="0" i="1" lang="en-US" sz="3600" spc="-1" strike="noStrike">
                <a:solidFill>
                  <a:srgbClr val="00b050"/>
                </a:solidFill>
                <a:latin typeface="Verdana"/>
              </a:rPr>
              <a:t>Wikipedia</a:t>
            </a: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Verdana"/>
              </a:rPr>
              <a:t>World Book Encyclopedia</a:t>
            </a: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Verdana"/>
              </a:rPr>
              <a:t>Encyclopedia Britannica</a:t>
            </a: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Never cite general encyclopedias like these when doing academic research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5" descr="Caution"/>
          <p:cNvPicPr/>
          <p:nvPr/>
        </p:nvPicPr>
        <p:blipFill>
          <a:blip r:embed="rId1"/>
          <a:stretch/>
        </p:blipFill>
        <p:spPr>
          <a:xfrm>
            <a:off x="304920" y="5335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Who</a:t>
            </a: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 puts stuff on the Web?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Beavis"/>
          <p:cNvPicPr/>
          <p:nvPr/>
        </p:nvPicPr>
        <p:blipFill>
          <a:blip r:embed="rId1"/>
          <a:stretch/>
        </p:blipFill>
        <p:spPr>
          <a:xfrm>
            <a:off x="990720" y="2057400"/>
            <a:ext cx="4678200" cy="3962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4876920" y="20574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you believe everyth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see &amp; hear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Oval Callout 6"/>
          <p:cNvSpPr/>
          <p:nvPr/>
        </p:nvSpPr>
        <p:spPr>
          <a:xfrm rot="2005200">
            <a:off x="4514760" y="4065120"/>
            <a:ext cx="2565360" cy="838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I do! I do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iting Inform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tabase articles have citations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n of Citation Machi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asy Bi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odleTools Media Center has login info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ever you use, you must format the citation yourself &amp; double check i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02960"/>
            <a:ext cx="6858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WHOOOO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828440"/>
            <a:ext cx="4038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Select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Edit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Approve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Review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Monitor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66720" y="1600200"/>
            <a:ext cx="4419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Content on the Internet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ight Brace 4"/>
          <p:cNvSpPr/>
          <p:nvPr/>
        </p:nvSpPr>
        <p:spPr>
          <a:xfrm>
            <a:off x="3581280" y="1752480"/>
            <a:ext cx="685800" cy="388620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3886200"/>
              <a:gd name="textAreaBottom" fmla="*/ 3868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5400" y="21600"/>
                  <a:pt x="0" y="21600"/>
                </a:cubicBezTo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images.jpg"/>
          <p:cNvPicPr/>
          <p:nvPr/>
        </p:nvPicPr>
        <p:blipFill>
          <a:blip r:embed="rId1"/>
          <a:stretch/>
        </p:blipFill>
        <p:spPr>
          <a:xfrm>
            <a:off x="5715000" y="304920"/>
            <a:ext cx="190512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6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Be suspicious of free info!</a:t>
            </a:r>
            <a:br>
              <a:rPr sz="5200"/>
            </a:br>
            <a:r>
              <a:rPr b="0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Ask: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76720" y="1752120"/>
            <a:ext cx="5410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o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at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en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ere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y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6" descr="Question"/>
          <p:cNvPicPr/>
          <p:nvPr/>
        </p:nvPicPr>
        <p:blipFill>
          <a:blip r:embed="rId1"/>
          <a:stretch/>
        </p:blipFill>
        <p:spPr>
          <a:xfrm>
            <a:off x="6553080" y="2590920"/>
            <a:ext cx="13273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Question-2"/>
          <p:cNvPicPr/>
          <p:nvPr/>
        </p:nvPicPr>
        <p:blipFill>
          <a:blip r:embed="rId2"/>
          <a:stretch/>
        </p:blipFill>
        <p:spPr>
          <a:xfrm>
            <a:off x="685800" y="3352680"/>
            <a:ext cx="1746360" cy="1905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380880" y="1447920"/>
            <a:ext cx="305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The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5 W’s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o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5400" spc="-1" strike="noStrike" u="sng">
                <a:solidFill>
                  <a:srgbClr val="006699"/>
                </a:solidFill>
                <a:uFillTx/>
                <a:latin typeface="Verdana"/>
              </a:rPr>
              <a:t>Who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is the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author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uthority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4" descr="Homer"/>
          <p:cNvPicPr/>
          <p:nvPr/>
        </p:nvPicPr>
        <p:blipFill>
          <a:blip r:embed="rId1"/>
          <a:stretch/>
        </p:blipFill>
        <p:spPr>
          <a:xfrm>
            <a:off x="457200" y="380880"/>
            <a:ext cx="2133720" cy="23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8600" y="-3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o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 </a:t>
            </a: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uthority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Author/ group/ organization/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ublisher/ sponsor responsible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Credentials/ qualifications? Expert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Look for links: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en-US" sz="3600" spc="-1" strike="noStrike">
                <a:solidFill>
                  <a:srgbClr val="7030a0"/>
                </a:solidFill>
                <a:latin typeface="Verdana"/>
              </a:rPr>
              <a:t>Home, About, Background, Contact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Google the name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Homer Simpson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runcate back the URL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www.thesimpsons.com/charact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Use www.whois.com or </a:t>
            </a:r>
            <a:r>
              <a:rPr b="0" lang="en-US" sz="4000" spc="-1" strike="noStrike" u="sng">
                <a:solidFill>
                  <a:srgbClr val="cfafe7"/>
                </a:solidFill>
                <a:uFillTx/>
                <a:latin typeface="Verdana"/>
              </a:rPr>
              <a:t>.net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&amp; enter URL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: </a:t>
            </a:r>
            <a:r>
              <a:rPr b="0" i="1" lang="en-US" sz="3200" spc="-1" strike="noStrike">
                <a:solidFill>
                  <a:srgbClr val="7030a0"/>
                </a:solidFill>
                <a:latin typeface="Verdana"/>
              </a:rPr>
              <a:t>Whois Lookup</a:t>
            </a: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U-Turn Arrow 13"/>
          <p:cNvSpPr/>
          <p:nvPr/>
        </p:nvSpPr>
        <p:spPr>
          <a:xfrm rot="5400000">
            <a:off x="7157880" y="259560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cubicBezTo>
                  <a:pt x="0" y="171957"/>
                  <a:pt x="171957" y="0"/>
                  <a:pt x="384076" y="0"/>
                </a:cubicBezTo>
                <a:lnTo>
                  <a:pt x="393601" y="0"/>
                </a:lnTo>
                <a:cubicBezTo>
                  <a:pt x="605720" y="0"/>
                  <a:pt x="777677" y="171957"/>
                  <a:pt x="777677" y="384076"/>
                </a:cubicBezTo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cubicBezTo>
                  <a:pt x="558205" y="293168"/>
                  <a:pt x="484509" y="219472"/>
                  <a:pt x="393601" y="219472"/>
                </a:cubicBezTo>
                <a:lnTo>
                  <a:pt x="384076" y="219472"/>
                </a:lnTo>
                <a:cubicBezTo>
                  <a:pt x="293168" y="219472"/>
                  <a:pt x="219472" y="293168"/>
                  <a:pt x="219472" y="384076"/>
                </a:cubicBezTo>
                <a:lnTo>
                  <a:pt x="219472" y="877888"/>
                </a:lnTo>
                <a:lnTo>
                  <a:pt x="0" y="877888"/>
                </a:lnTo>
                <a:close/>
              </a:path>
            </a:pathLst>
          </a:custGeom>
          <a:solidFill>
            <a:srgbClr val="0a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221520" cy="6208560"/>
          </a:xfrm>
          <a:prstGeom prst="rect">
            <a:avLst/>
          </a:prstGeom>
          <a:ln w="0">
            <a:noFill/>
          </a:ln>
        </p:spPr>
      </p:pic>
      <p:sp>
        <p:nvSpPr>
          <p:cNvPr id="195" name="Bent Arrow 8"/>
          <p:cNvSpPr/>
          <p:nvPr/>
        </p:nvSpPr>
        <p:spPr>
          <a:xfrm>
            <a:off x="914400" y="1981080"/>
            <a:ext cx="814320" cy="868320"/>
          </a:xfrm>
          <a:custGeom>
            <a:avLst/>
            <a:gdLst/>
            <a:ahLst/>
            <a:rect l="l" t="t" r="r" b="b"/>
            <a:pathLst>
              <a:path w="814388" h="868363">
                <a:moveTo>
                  <a:pt x="0" y="868363"/>
                </a:moveTo>
                <a:lnTo>
                  <a:pt x="0" y="458093"/>
                </a:lnTo>
                <a:cubicBezTo>
                  <a:pt x="0" y="261317"/>
                  <a:pt x="159519" y="101798"/>
                  <a:pt x="356295" y="101798"/>
                </a:cubicBezTo>
                <a:lnTo>
                  <a:pt x="610791" y="101799"/>
                </a:lnTo>
                <a:lnTo>
                  <a:pt x="610791" y="0"/>
                </a:lnTo>
                <a:lnTo>
                  <a:pt x="814388" y="203597"/>
                </a:lnTo>
                <a:lnTo>
                  <a:pt x="610791" y="407194"/>
                </a:lnTo>
                <a:lnTo>
                  <a:pt x="610791" y="305396"/>
                </a:lnTo>
                <a:lnTo>
                  <a:pt x="356295" y="305396"/>
                </a:lnTo>
                <a:cubicBezTo>
                  <a:pt x="271962" y="305396"/>
                  <a:pt x="203597" y="373761"/>
                  <a:pt x="203597" y="458094"/>
                </a:cubicBezTo>
                <a:lnTo>
                  <a:pt x="203597" y="868363"/>
                </a:lnTo>
                <a:lnTo>
                  <a:pt x="0" y="868363"/>
                </a:lnTo>
                <a:close/>
              </a:path>
            </a:pathLst>
          </a:custGeom>
          <a:solidFill>
            <a:srgbClr val="0a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at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at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is the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ccuracy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of the site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4" descr="vamps"/>
          <p:cNvPicPr/>
          <p:nvPr/>
        </p:nvPicPr>
        <p:blipFill>
          <a:blip r:embed="rId1"/>
          <a:stretch/>
        </p:blipFill>
        <p:spPr>
          <a:xfrm>
            <a:off x="6858000" y="3048120"/>
            <a:ext cx="2144880" cy="32922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522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05:39Z</dcterms:created>
  <dc:creator>wcpss</dc:creator>
  <dc:description/>
  <dc:language>en-US</dc:language>
  <cp:lastModifiedBy>baddison</cp:lastModifiedBy>
  <dcterms:modified xsi:type="dcterms:W3CDTF">2013-05-13T14:18:22Z</dcterms:modified>
  <cp:revision>196</cp:revision>
  <dc:subject/>
  <dc:title>Evaluating Websites</dc:title>
</cp:coreProperties>
</file>